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A84-3821-416B-A28D-62570E0C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576-AD38-4349-B441-AA0B136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00A-4BA7-494D-B83E-8D18AC70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084-45BF-4ACE-8F14-FEB9B043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738-4E4E-4C48-B000-24DE58A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DEC-5091-4A3E-90F9-6F79D3A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CC7-3389-412C-A5C8-24EB2871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120-8C10-46EC-98C8-707D611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BBD-0988-45D5-8370-32E5F8C2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595-7620-4AD7-9844-CD12234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53-F5EF-40E1-87F6-573F77E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E42-CF28-4244-9381-DBC3316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BE291F8A-3B34-46EA-940A-EFFC4514B70E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A's- Forward View, next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110-DEF5-4E0C-8325-F77F22CEA2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7E3-E55D-428E-AE89-AD560F4DB8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C5A-310B-4073-9FFB-B8ABD76539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gnificant activities in next period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irs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process to enter into Peri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second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Repo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ly financ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5D2-6B6B-45FA-ACA1-DE255A24AB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- Full Break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143000"/>
          <a:ext cx="8229600" cy="4721400"/>
        </p:xfrm>
        <a:graphic>
          <a:graphicData uri="http://schemas.openxmlformats.org/drawingml/2006/table">
            <a:tbl>
              <a:tblPr/>
              <a:tblGrid>
                <a:gridCol w="857160"/>
                <a:gridCol w="914400"/>
                <a:gridCol w="914400"/>
                <a:gridCol w="914400"/>
                <a:gridCol w="916200"/>
                <a:gridCol w="914400"/>
                <a:gridCol w="914400"/>
                <a:gridCol w="914400"/>
                <a:gridCol w="969840"/>
              </a:tblGrid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o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R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6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,4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8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3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052,0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6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7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,9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8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7,593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0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,8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,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3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7,1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9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5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,6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1,7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7,1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,3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6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,6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1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6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7,0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72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27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,2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2,5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6,252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7,4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,419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7,3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1,30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9,375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2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47,250 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72F-745E-4AFC-A75F-1DA57FE4A2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VN-NREN Forum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support and connections with internation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lead to coordinate communication between nation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EVN-NRE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co-located with EVN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with outreach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of next publication/presentati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999-8E65-4DAE-978A-9F4699B2D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VSA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cheduling discu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support flexible scheduling to support T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in active email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brought before the EVN Board fo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publication and responsibility for the e-VLBI schedule (see 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back-to-back e-VLBI session is planned for Nov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9C2-5103-4A2F-B774-24F26E5747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-VLBI Schedul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6248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ken from: http://www.expres-eu.org/evlbi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050840"/>
            <a:ext cx="639756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8C1-EB64-4F66-A45D-9A40A1EFD5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utreach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Outreach via Jodrell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presentati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ing out to communities beyond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ENA- European R&amp;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N- Asia-Pacific R&amp;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ID- Advanced Grid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officer will promote results of forthcoming scienc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orward View: Next 18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9AD-F387-43AA-B6AE-71F66D6622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240-3CB1-469E-B605-96B745B800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2:06:31Z</dcterms:modified>
  <cp:revision>107</cp:revision>
  <dc:subject/>
  <dc:title>Slide 1</dc:title>
</cp:coreProperties>
</file>